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2BBF-1DE7-4463-BC24-430B8D0FE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1DA3-3C30-4889-9629-E9A2E3098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431B-DC2A-4B6F-9358-154E27A79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3E33-8ABE-4544-BD7A-E53EE1BC9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B56D-E43B-4937-B9FC-5F83845B0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A483-3522-4116-960E-8B8191A69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29DE-B109-4F7D-9FF9-3A35502F0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9DEB-80F1-4DB6-BA25-709CD6F15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B5F8-FB09-4AFD-B78F-CE15AFA0B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E3E2-B00F-4DF1-A49F-9368A9A6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B73D-6422-4BAB-A75E-0C615E0D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AC1B-0877-4491-A78B-827013AF0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B5829-9EE9-4EC3-9E5D-F33090B4EE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438280" y="685800"/>
            <a:ext cx="464832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ecycle you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3581280"/>
            <a:ext cx="80010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UNCH TICKETS HERE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2666880" y="457200"/>
            <a:ext cx="34290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ecycle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200400" y="2362320"/>
            <a:ext cx="24382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unch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666880" y="4419720"/>
            <a:ext cx="3657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icket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0" y="380880"/>
            <a:ext cx="1817640" cy="1798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57200" y="4114800"/>
            <a:ext cx="1817640" cy="1798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57200" y="380880"/>
            <a:ext cx="1817640" cy="1798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6858000" y="4114800"/>
            <a:ext cx="181764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8T18:21:38Z</dcterms:created>
  <dc:creator>mes5c</dc:creator>
  <dc:description/>
  <dc:language>en-US</dc:language>
  <cp:lastModifiedBy>mes5c</cp:lastModifiedBy>
  <dcterms:modified xsi:type="dcterms:W3CDTF">2011-02-03T13:14:53Z</dcterms:modified>
  <cp:revision>3</cp:revision>
  <dc:subject/>
  <dc:title>Slide 1</dc:title>
</cp:coreProperties>
</file>